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19D-5229-485E-9AFF-0F95B272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B36-8FF7-4787-A19D-B5EDD952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A12-30F8-4327-8906-5E9FF64B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4A8-AAEB-446D-AFF5-88695A7D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674-4CCA-453F-8BF0-B12133CE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764-D6ED-43EE-967B-BE5CBAB3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FBF-1AC5-4D4D-9CB3-2B51E1AD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4AD-C9D2-45D5-9F59-01A19740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82A-EFD6-4588-A3BB-927A2FEC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FB8-37E4-4209-819E-BE76606C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19A-FF2B-4F40-B7C5-BCC0F098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153-3422-4E3A-AE98-58F6487C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4CE04-5A90-4526-87E9-6DA3BBE11F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0720" y="590400"/>
            <a:ext cx="851544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cuidado com os anim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4426200" cy="521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i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nimais para sobreviverem dependem do cuidado do hom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s animais são nossos amig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bora pareçam muito rudes eles podem nos auxiliar em muitas coi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51600" y="1965240"/>
            <a:ext cx="4425840" cy="459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utilidade dos anima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 vaca por exemplo aproveitamos tudo: o leite, a carne, os ossos, o chifre,o pelo, etc..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51600" y="2511360"/>
            <a:ext cx="44258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or isso pen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3280" y="2884320"/>
            <a:ext cx="4425840" cy="2759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idar bem dos animais vai fazer bem para você e para e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2:39:01Z</dcterms:created>
  <dc:creator/>
  <dc:description/>
  <dc:language>en-US</dc:language>
  <cp:lastModifiedBy/>
  <dcterms:modified xsi:type="dcterms:W3CDTF">2010-11-30T23:07:50Z</dcterms:modified>
  <cp:revision>2</cp:revision>
  <dc:subject/>
  <dc:title/>
</cp:coreProperties>
</file>